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46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136-7A67-40B0-AF8C-24ACF4C5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BD7-A93C-4534-B34F-CFAEA698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B8A-11DD-4E63-96FA-856E87AF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F1F-5768-4CBD-A836-F2574CE3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2E99-C1CF-4BB4-AC31-8E47A80A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4940-7CF3-4D96-AD0B-ACC533C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9D3B-50B8-43DC-B8F4-6978D84D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CAC0-B0E9-48DD-ADFD-5AE7F32D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04C8-E3C5-4B45-9226-E58251FE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156B-CF66-4511-856F-005654CB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079-FE51-43A5-860C-5FA3EC7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35B-A80B-4C06-ACB4-84090B84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06E2-95FD-4576-AE84-AC0D0679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A6D5-833C-410C-BDAF-1B37DDB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008A-C315-45E2-8C36-2FD1B7CB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8EC-55AF-41B0-9CA7-3F5E1033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1DB5-FB62-4560-A53C-E769AD0C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C05-E149-49AB-919B-15109CED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7CF-0CBD-4CD3-A658-2AAA8DD9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AD2-8421-4FCB-8CD1-26C519F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F1B-8C12-447A-BAE0-F7B68A4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BA3-891E-437B-A32C-098EFEA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A32-D11C-410E-8596-45664B2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2FF-5BCE-4BC7-8D53-CF4EBA0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4D1-BA05-492E-8DCB-492F0DFEC4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E645-0C21-4C85-AEF7-637C8E7E51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Ampstamp@yahoo.com" TargetMode="External"/><Relationship Id="rId3" Type="http://schemas.openxmlformats.org/officeDocument/2006/relationships/hyperlink" Target="mailto:Ampstamp@yahoo.com" TargetMode="External"/><Relationship Id="rId4" Type="http://schemas.openxmlformats.org/officeDocument/2006/relationships/hyperlink" Target="mailto:Grommet1@pacbell.net" TargetMode="External"/><Relationship Id="rId5" Type="http://schemas.openxmlformats.org/officeDocument/2006/relationships/hyperlink" Target="mailto:Grommet1@pacbell.net" TargetMode="External"/><Relationship Id="rId6" Type="http://schemas.openxmlformats.org/officeDocument/2006/relationships/hyperlink" Target="mailto:Grommet1@pacbell.net" TargetMode="External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81080" y="1447920"/>
            <a:ext cx="5105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AMPSTAM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52480" y="259092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ttest Thing Since Solder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ampstamp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828800" cy="1687320"/>
          </a:xfrm>
          <a:prstGeom prst="rect">
            <a:avLst/>
          </a:prstGeom>
          <a:ln w="0">
            <a:noFill/>
          </a:ln>
        </p:spPr>
      </p:pic>
      <p:pic>
        <p:nvPicPr>
          <p:cNvPr id="211" name="header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41911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Box Instal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fect, snug f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lo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ghter tolera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AS%20Job%2011.1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838080" y="1998720"/>
            <a:ext cx="38102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 In Pl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ght, secure and professional prepa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AS%20Job%2012.1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841320" y="1905120"/>
            <a:ext cx="380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Finished Product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n, professional finish, every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cellent also for Strobes, Switches or any mountable dev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3" name="AS%20Job%2015.2" descr="Rectangle: Click to edit Master text styles&#13;&#10;Second level&#13;&#10;Third level&#13;&#10;Fourth level&#13;&#10;Fifth leve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09680" y="1905120"/>
            <a:ext cx="286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stimoni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real time saver when cutting in strobes off a ladder.” – Tom Corey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ved my knees on the first job.” Bill Finnert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ynamite when cutting in plugs in cabinets or any restricted spaces.” John Mc Gow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any Pro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mpstamp Inc. is a California Corporation and sole owner of Patent Rights to the Ampstamp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mpstamp Inc. welcomes qualified partners to license production, marketing and distribution righ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tact Inf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1676520"/>
            <a:ext cx="723924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act Inf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ul Peterson CEO, Pres, Inven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oice 415.564.3456 Fax 415.564.345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mpstamp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@yahoo.co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ke Peterson V.P Sales and Marke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oice 415.661.8972 Fax 801.881.092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rommet1@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acbell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.n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511 38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venue, S.F. CA, 94116-285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fety Benefi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ces undue neck strain by reducing the amount of time a worker must tilt his or her head backwards to trace the cut-in-box for smoke detectors, track lighting feeds, etc., will minimize neck injur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roves safety by allowing One-handed use and keeping one hand free for safety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ows the user to keep a comfortable pac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ves your knees by reducing the amount of time spent kneeling, crouching and crawling in tight spac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duct Benefi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600200"/>
            <a:ext cx="7788240" cy="62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ts installation time by almost 75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ables a user to provide a plumb or level template in space restricted areas [i.e. between two desks, a file cabinet, or other immovable object(s).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chanizes a varied proces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ables the majority of a job to get completed when material does not arrive, or runs out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iminates pencil/pen break on rough surfac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ccelerates a new electrician's craftsmanship by giving them practice templates to cut, and ultimately tighter tolerances on installa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duct will pay for itself in it’s first few us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MPSTAMP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The next great too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redible Advertising Medi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ustry Wide U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me and Effort Sa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ldwide Appl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e of 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ampstamp" descr="Rectangle: Click to edit Master text styles&#13;&#10;Second level&#13;&#10;Third level&#13;&#10;Fourth level&#13;&#10;Fifth level"/>
          <p:cNvPicPr/>
          <p:nvPr/>
        </p:nvPicPr>
        <p:blipFill>
          <a:blip r:embed="rId6"/>
          <a:stretch/>
        </p:blipFill>
        <p:spPr>
          <a:xfrm>
            <a:off x="609480" y="1905120"/>
            <a:ext cx="38102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What is the AMPSTAMP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600200"/>
            <a:ext cx="8251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AmpStamp is a clever tool and advertising medium that Simplifies an extremely common and often difficult proces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replaces all templates, markers, pencils and pens to perfectly outline and cut in an electrical box, no matter the wall surfa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stamps the brand name, identity and logo all over jobsites and materials everyday – on any jobsi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MPSTAMP is an invaluable, time and money saving tool. Perhaps even more importantly, it helps avoid injuries and has tremendous commercial potenti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et to a potent product 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5640" y="16765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quent application / 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umers pay you to do your advertis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umable yet cost effici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rove Brand Identity on S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igger Reticular Brand awar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e Marketing and branding in target mark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emen, technicians, buyers, manag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9" name="AS%20Imprint" descr="Rectangle: Click to edit Master text styles&#13;&#10;Second level&#13;&#10;Third level&#13;&#10;Fourth level&#13;&#10;Fifth level"/>
          <p:cNvPicPr/>
          <p:nvPr/>
        </p:nvPicPr>
        <p:blipFill>
          <a:blip r:embed="rId7"/>
          <a:stretch/>
        </p:blipFill>
        <p:spPr>
          <a:xfrm>
            <a:off x="685800" y="1600200"/>
            <a:ext cx="147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OW AMPSTAMP WOR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oose work s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te: normally cramped quarters that drawing with a pen or pencil would be difficul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AS%20Job%201.1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990720" y="1676520"/>
            <a:ext cx="2739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et 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y Set-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ust meas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5" name="AS%20Job%203.1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906480" y="1905120"/>
            <a:ext cx="36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reate Impr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sh Gently on hand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ll aw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AS%20Job%207.1" descr="Rectangle: Click to edit Master text styles&#13;&#10;Second level&#13;&#10;Third level&#13;&#10;Fourth level&#13;&#10;Fifth level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177920" y="190512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fectly Clear Templ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umb and Level, even on rough surf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AS%20Imprint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461960" y="1905120"/>
            <a:ext cx="256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Cut-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rt Keyhole Saw and cut 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y to read outli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guess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AS%20Job%2010.1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8380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04:35:55Z</dcterms:created>
  <dc:creator>user</dc:creator>
  <dc:description/>
  <dc:language>en-US</dc:language>
  <cp:lastModifiedBy>user</cp:lastModifiedBy>
  <dcterms:modified xsi:type="dcterms:W3CDTF">2002-02-12T10:14:09Z</dcterms:modified>
  <cp:revision>5</cp:revision>
  <dc:subject/>
  <dc:title>THE AMPSTAMP</dc:title>
</cp:coreProperties>
</file>